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9AB-BBFD-4786-BCD8-8892D6C5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B54-35E6-42CF-809A-C5264CB4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15331-4FA3-4290-ADEB-818646B2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7C135-5D36-4AB2-BC3E-C310869F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3C2FB-1FAB-4525-B303-0A762D79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D3E82-0CFF-40DB-BBA1-4913ABB0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91C5F-B1EB-44C2-9B43-996E4A77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75FA1-5AA6-419D-A3CA-BE26D640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338C5-0763-4A7D-AB45-E90F661E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B742D-E7CA-4481-A686-5E4015B1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6577B-BCC0-43E0-BBE8-F0F1B922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1F865-EA5E-472A-AF36-2436B1AD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5E1-EF54-4B90-923A-698F9BA7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FB8E7-8A4C-45A2-B272-10339BF9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99BD4-421B-4935-9937-AA656E90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3800B-B11F-4FE1-A532-02208DE8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877B1-91D1-47D2-ADBC-B452C049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F2A77-6EFD-45E4-BDF1-351B6289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B7123-5800-45F1-A26C-8C288B05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76271-0FCE-4BDC-AEA1-64A45F0C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BE353-75A2-488E-9896-AB866F63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61A64-0E69-47CE-927D-7852F0D5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A9CC3-B3FD-4F53-9383-69407518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08A-92C2-478A-B3BC-0B769D2E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0EDDB-FF80-4178-9E42-0ADBCD92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1931A-3124-4277-BA61-B3003E92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520C2-A6CE-47E3-ADF4-8C889A41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824E5-AA5B-4BA2-97AA-449A1BF2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8F1AD-BB5C-4B9C-B86E-DA42136B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4BACE-2E0C-4494-90D0-966AC855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2B049-B28C-426F-BC33-2A199A05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90876-A708-4A83-ACFC-51F67067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7F984-4C11-4864-809E-1CBB8A30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D9817-AB06-4E5A-9A0E-2B831420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88D6-D4AA-46E9-AF56-C9216722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DD7A6-E6E9-4692-9312-536C54CC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5469A-EA78-46CC-956D-A6B08AAE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35100-E473-49CF-838E-318B4056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0BB69-D9AA-48EA-A85B-4077FC44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F0C48-D4FD-46C7-AE0A-AD652213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4ED57-BE58-4C17-A5F8-7AF3A420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AFB42-6980-4B9D-A03A-29B9D586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5ABD3-D2C3-4A1A-B3FF-46CD70F9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2FCD1-0223-4309-B302-27B9E67F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61F51-BBF8-40F5-BB96-35295D82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D44E-7E2F-492C-B89C-1DAF8878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ED897-BB5D-4EF7-8AF7-AAC75D1A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3E833-8176-40BC-BD68-AF4CE302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C3D36-B2B1-466E-8F3B-56123A67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7CC57-90AE-4046-8841-191C7813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BF4C0-A6C4-42E0-A55A-E5354DB3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9842-FFF6-4154-97DE-C441C968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32C6-DE64-44FE-909E-6C136D3D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0351-A77C-4AE8-88B9-5CB419B9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C83B-56C4-4288-AD51-7C48E69B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9D79-D13E-49DE-9555-68F1B11D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75A-1727-40D6-847B-FF69C302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668F-E88D-4762-B89F-32E1CA69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2A18-AFD6-4222-87FE-E2A55664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40CD-881A-4DB9-A688-127CA56E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CFCC-67BA-4A37-8FCB-9E5A5F1B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0A9F-3368-4D44-AEFD-362AB735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2FB91-B14F-40CB-BE1F-A644BD58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9C02-8D8F-4440-8FFD-4B913EF1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F3826-0223-40A5-A75F-C6053C54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A634B-91BB-477C-9BBD-67564268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F5B96-D374-4E55-9C9A-8108A862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4C3-6A80-457D-9261-D77393C1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50C6-FF9F-48BC-8EDA-B594948B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0F8BB-5FE5-4D23-A3ED-2CD54CB7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3A6D-D2EB-4A6F-BE7F-BF8639EB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E75F-8838-4D49-8A5C-48C39A75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0D67-886D-4954-A6F1-0B58B7C5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CBA3-2CDE-48D8-A6D7-45B12FD1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811CF-6547-472B-BC27-FE1C190B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E0B65-5D97-40B8-A846-50DE083D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1CC57-2241-4E4E-AD70-AD3961CD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AB203-ADE0-40B0-9C48-9606E7F2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A65-AD48-4B6E-9E33-421A1F1C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84DF9-E016-4820-BEE4-ECEBB180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294FB-CF23-416D-89DC-EB375DE0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026E-8867-4CEA-9D3F-73F6FDBC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7769F-99C9-495B-A317-D5868194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2EC86-9872-4CAE-A0D8-4C3E15E6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F9160-B292-41D8-B866-494BFEE3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790F-9DB4-4FFB-B510-73955603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F8982-30D5-4B16-8266-8C82C29B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0BD55-41F9-4AB4-BF23-9948AA21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6C732-E76C-4609-A07D-A38DABE5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918-C171-4DED-87D5-4EDAF726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FED8B-69E7-49A1-8CFB-DDC1ADEA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DDF0F-B23A-42DD-9A16-1A23A532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D35A9-3884-432E-B881-819EE9D5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CEE86-0809-4552-8D85-343CCA3D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33A5F-600C-4DC9-B2FF-505E6866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2E951-FE39-4F2E-99EB-4C28CF74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FD88C-B08D-421D-875D-AFEE84C2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CD793-A568-4D6A-A0F3-CCA2FB96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EEEC1-046F-46FD-AC70-DBA1C36E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D9BD3-07E9-4345-93F2-BC86A30E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D12-1513-4C56-B86D-E61F7236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CC037-723C-4ECC-B7E3-958DD468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2F1B5-34A3-48E5-BA60-4D9FD27C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BC0AA-8E88-4DB0-A35D-2F9CB127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D3F12-13FE-4535-98DE-E26E6167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C9DA6-EA5A-49DF-AAB9-39ED34C6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81E43-3921-403C-8D5A-CC42C654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9C5E7-ACD8-4293-B444-2724FEE2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903FF-6C85-45B6-A2B3-3D779615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012CE-FA1B-4C58-B2D6-F9AAEC2D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36913-B9A8-44D8-9168-D1B4E9F1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F54-7569-4A97-887D-43C18A0E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2A596-4FD0-4ADE-8419-DBF9A126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F6AAA-1967-484C-93EE-680BF325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B29D3-6F2E-4DAC-A705-95CCE5FC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5EA07-D35A-4578-8EF9-20E1150C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173C5-7D18-47F9-95D9-7559FB1E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0F2C8-CA63-4ADF-AA1D-789C5A2D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82E54-2516-409F-9468-628BC5A0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549DD-97E9-4960-B6C0-E24FC653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A3D58-D398-4AA6-9D43-333F52A1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A4256-8B08-4E60-B59D-D12C42C6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E43-B2E9-41D2-B8FC-897C7E1F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E6749-38C1-40D1-91E3-CDE396DC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7B9ED-0973-4326-AFFB-72F2CA96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62DCD-AD52-4BEC-9207-9FA46001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1FDA7-AF44-4F3B-AD29-2CD16756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F2588-506D-422B-AA2D-417401DE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51511-FA71-4133-9B0A-DBD595F3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3ED68-D469-4854-8143-B7A30827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381D3-BBA2-464A-A4BA-B6F1B8CD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1B6E4-E385-43F2-9B85-2E720B4B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426E8-FECE-42A1-9895-F991FAA4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58B-2D61-4183-A15A-6AE70775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F7C9F-1AF7-4C28-AAD4-3AE26DD5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06E9F-3E0A-43A0-8AFA-528BAE37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94871-AE07-457F-BD06-E952EE46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DE877-07D9-44F2-906F-551E5561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677DB-4B7D-45ED-A6A0-9548DEE7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3F1AB-DF59-4E2E-8713-CD6DB287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3A572-0E69-4BAD-9974-C2A50F78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4C814-761B-4D2F-B81F-5987E7E1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6EAF5-BD36-4941-AC54-0EDC1748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15050-4EE2-43BA-A191-E11FD1CA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23D1-4EF1-42E8-A86F-4077397B4E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12B7-0E30-44E0-80AF-5910672C903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CA66-D9AC-4D6C-9712-AC72356B32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1911-A7D8-4B2E-BC1D-DACBFE18BF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F29B-CF37-4806-ADD1-09065FFAA8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3AF5-3E0F-48C9-8E7D-C4C6BC1361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9B4E-A09D-4101-9E5D-1FE64352A0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7566-8A92-4A4B-A703-03F5D9F90A1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A7F4-A85A-4E7D-9E8A-EA0CB43E6F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D09C-FC92-4068-8AD7-668E316EEBA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8467-2451-4710-B7E2-6F3ADCB9031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9CD6-E2D3-4E25-A333-30D3F548056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94 Boh sa v Kristu sklon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sa v Kristu sklonil k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u zjavil národ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šnych dvíha k výši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večný máme v 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lo tejto pravdy m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vete spásne posla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ho cirkev Pán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lní vrúcne, odd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keď dielo dokon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ho Ducha poslal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každý v pravde stá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e ako Ježiš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ôležitú ľuďom zv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me Duchom pud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nažme sa ich k Bohu v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boli spas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áročiami pieseň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ón pre veky ud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piesni tej sa pridať sm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ša chvála jasav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sa učí s Kristom 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rom lásky zahorí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vždy môže šťastný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mu srdce otvorí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3:39:23Z</dcterms:modified>
  <cp:revision>21</cp:revision>
  <dc:subject/>
  <dc:title>Je veľký náš Pán, on slávy je Kráľ Nech do všetkých strán  spev vrúcnych znie chvál.</dc:title>
</cp:coreProperties>
</file>